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F588-3DC3-44BF-91A4-F53A710F1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AFA3-F73A-4BAE-B051-53033E81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B9F501-1DD7-4596-9D25-39AD81EC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E88147-7B0E-4F07-862B-B1A2581E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EA0352-E6B6-4250-806D-55DB7C56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EFAC22-1AF2-428C-8FE0-D2FFA852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4CEB4D-FC01-4B32-AC60-EB615F5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BCAFB-7CB2-462B-810D-8ACBA2E3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C1DE62-2B4C-42E0-953E-6E692748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563980-6283-4D6A-A29A-3DCA80D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372D6C-9B28-471B-B326-E0A0C2DE14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550E-74DD-4563-B513-0855A97D35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C518D-F66D-40EE-91C7-3CE1C176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426C-DB83-49B5-9EC9-A15B981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93750-51C8-45A8-88B8-C8E780A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3793A-F6F5-4CE9-AFFD-2EFFAF45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8E26-4ACD-4E9A-8738-F1B12FDC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FA5F7-703F-4820-9E5F-7C25AA79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B8E99-A9E3-4242-9A80-B7B5DB99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D199A-7579-42E0-8D33-5A25C5B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18757-1E51-4E4D-B9A1-D59806A4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89A06-F7C2-41E6-89E2-EDB0768D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D1798-12D2-4A2C-AD2F-4DCA23F2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B6AD0-38D1-4749-B4DA-7CA1EC5D91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80C34-FAF1-46F3-9F9F-B2B2AEE03E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D2A046-0F87-4D96-B63A-EA075DC44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563262-1AC1-4347-91F7-AB8D40D3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51613D-7EC7-45A9-ACA7-25537F5A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9502C-1A74-43C0-8313-3944B00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E74C1F-A104-4DA9-89A2-411FB310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2AF490-2F91-417C-96C6-41A47A88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C766ED-D85D-4505-AF95-176354F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6D3E66-438D-406E-8B4C-980F418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073F75-3D80-4298-B315-C5ED16F2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277A9-4EF6-4959-97F6-57C37BDC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975036-5B2A-4E67-9782-F9D558FF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57CCB9-A9BB-457E-84E8-843ED471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C42237-1E2E-415E-ABAC-F3A1481B38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8AC89C-C2A1-443F-81A4-44C0274E43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077BB8-6E7F-4F82-A7F8-8FF0C3CC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839B1-838A-4F78-93E8-835508DF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9D1B1-6D86-416D-AB39-F90441B3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CBD33D-FD0D-4387-A929-8D4DC581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73FD93-A0F3-4150-A66C-44C349966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79B253-0820-46B2-80B6-1B0C5A27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13383-AF2F-4327-B3FF-9C73EA1D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24F05-7B0A-4B98-B883-53F766AB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428231-CE74-477D-BC3E-58ADC635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9FCDE-EA01-4C33-9AB7-56428777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44330-3BC3-4702-AFFE-F12E265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0FA03-FBC2-4CDA-A779-C6377FE81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8745-AD86-4EE3-B557-36C5B5E79F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A0DCA-180F-4F5C-89E2-D4016DE8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CB2C3-C985-48BE-AB56-A30CEAD3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28D42-6A91-47B4-8624-088951CE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37D34-85CA-4BEB-9EC1-6A9D166B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410E-4FA9-4509-930F-A1C4585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D8C6F-9095-4E5E-916B-A6091A80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8554FD-88D0-489B-A489-A91292BA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E99AD-E4D3-4D79-AB74-EC1431A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F9D08-E098-4725-92AE-B3E8DD88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AE6BF-39FF-48F3-A9D9-9A08CBF6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A4967-C487-4DCE-B726-0910F70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DD90F-6124-4E36-BBCB-4C38B1E41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18BA4-873A-4E6B-A8D2-1C587F74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04A99-A10D-4802-9AC4-F62841E7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45B4B-0B58-4FE6-BB93-F35216C0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E8869-D736-41AB-98CD-6AB16A00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C4A6-C96E-4E86-A27C-CACF4B4C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8C0A2-9DC6-4E35-9DEA-8FBF11A2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0CB8F-9A59-40DA-8FA5-75CB0A0E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88E7B-E093-4D42-A195-98E7E7A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F447F-110D-4A78-9E2D-9A62705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F752-B8A9-4C56-A1AC-BB3F1F3D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47A50-D0B9-4DD6-840B-F8DE19EB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A2F902-F891-407F-933B-404AE5233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346B-AA28-4759-B092-4B91D7DA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8523C-9C77-4826-BBD9-15AAEB5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A7231-1F3B-4B87-B7CA-252D571C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F5735-C89E-4856-86FA-40E32168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2B129-B929-453D-ADA1-7C802443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FC3CB-E0E9-4923-A6B9-DA943B28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2FDEE-886F-41D5-B97D-1A205B33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20E2A-9CD0-4076-AD86-741CFAF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8412F-09D7-4835-83F3-A00456A9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81DC7-452A-4D6C-9434-A4EA84E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62C10-9D58-4513-802C-333315F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876D4-5736-4886-ABC4-5C716CC1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402C8-45BC-4479-A5FD-91E495E2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1C7D1-3E6B-400A-A037-232CEF88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94525-99D9-4C61-A068-246CF500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6A408-74F2-485A-9B53-3AC6BEFB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0DA29-CCA6-4D19-BB12-CACE0345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FE81E-A0FF-4919-8DF2-B83D9B0D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BEC02-FEBA-4E02-AE44-178E3EC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28119-568E-4258-BB6E-05F91E5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FC906-BDC1-4A8B-94BB-0E20067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31B54-34F6-472D-82D3-D89A6D8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102B0-C05A-48AE-8C04-B0BB9FEE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85746-5BFC-461F-ACF2-11706D5D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BC06B-8826-481E-93BE-94E59A39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8EE31-C4D1-4AD3-8C76-8462D70E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A72AC-0EB2-4C44-8924-9231506B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FF929-1AAB-407B-BDCB-CCA2999D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04F22-7864-4400-BB46-FF611D46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9EB11-580A-4518-97E3-D38F97BE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56AC5-BE6E-4760-A2DC-7AC3BAA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F0468-27DC-42DF-9249-1E1A35B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BD5B6-BBA9-4E52-A065-7C748B55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0580F-8AD5-4B50-BBAE-C59BD656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E51F4-272F-4F2D-9197-526FE65C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D62CB-8E1E-4D48-AA66-936939DB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7AED8-8225-47F1-A128-742D26DC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A207F-7D6C-4A7A-90CB-5261749A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ECE57C-60EF-431E-B901-99638FD1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BE967-A0D3-4D92-B7BD-0876A96E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54134-D977-4945-B78B-53755CD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DFDC8-F6A7-4C3B-A888-DB661223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0865F-E522-41CF-835D-7DEA91F0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1F8DB-7328-4CA9-ABFB-1B81449F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09795A-6492-47A8-B076-B0077153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45B60-E3F2-48E0-90C4-75F4C729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54456-2D60-4323-8016-92E05F55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21128-0954-4B1B-8119-CEB003A9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A286A-D16F-41E9-B64F-6784694F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9C56D-2DF0-409E-9FC0-592DEED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22C5E-EA35-4EDA-95AA-1A5379BE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5894B3-A77F-43BB-B6BC-28CE991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9BC32-6266-4FFF-AC14-F7E436DE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0640C-4303-4EA7-8549-EFB8D3A3C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7815C-13C7-4FA3-A0D0-A8C8796D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4E74E-426B-4B18-986A-7E5AC001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8ADD2-39C7-4724-8184-B39257B7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69FC6-A075-499D-9D04-28FE473D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02ADE-9DB0-4BF4-99A7-9F364CA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A896DE-A45B-4E79-BD77-B092D74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D2DDE-515E-4393-889D-9FF32CF7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9516B-BB36-4153-A5D1-F6332888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F64FC7-133E-4B68-AEB4-D736A5A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550C7-645A-465D-B2D8-57407D93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F3613-13BD-4F93-93F3-8B2E291C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4FCD4-ADFA-4DB4-9155-A8E68F50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ECD847-02F8-4DB2-ACDB-35D63B3F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8FA45A-78CA-4DCB-B3F6-95D69E96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16E885-3A07-4F2B-9751-75B64878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56E31-CD4A-4136-A49F-0EE90DCD4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58870-1E67-4482-8120-F2034D2E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0011E9-8235-4CAF-9E1A-BB6EFD5B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76CAC-CA2F-4597-97A3-318C9E3E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5B4D3-90B9-4ADB-A1C8-9C2CAB40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B593B-0C70-4337-80E5-134E036F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97BA3-3E30-4A94-840D-A8703E2E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B5435-1B3F-4B5B-AD72-8F46C09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4EA3C4-7BEC-4DBC-81A7-E853A62E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4BBF32-8B07-46D6-BDA8-51632C4B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C122A6-71DD-4536-82FB-F7044B3E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E55B0-5248-4287-AEE2-8CB1478C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BEDDC-0761-4A6E-B9CD-3738052F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45412-3EB1-44CF-A7AB-65E9EE96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CACFFB-E62F-4B60-AE39-CDF752C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728FE2-86EA-4ECC-8268-D13651B7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BAB2A-1233-486A-9089-3F9A4F23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C73C5-074B-4B55-9602-3F7953E3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FC9F4F-F13C-45D3-8235-1EDEBDA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3FD26-FE5C-4284-8287-5F8EE83D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BE29C-4D51-4D0D-8228-A3252988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33B9D-C414-4E64-994C-773007B4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5BBFB-177F-4835-A026-9C2A2C316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BD7A35-60A8-497C-9B15-1F903A7F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AAA8D8-D94C-4C55-814A-B5879673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AFED3F-13EB-4D2E-8301-D6693BCB3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B72E5-3E24-47A5-ADDC-C1BCE505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21BE8F-7A4B-4518-937B-961B2963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7D434-ACDC-4BB4-A3FE-7F740F45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1090A-ADEB-4E81-B959-7431ED91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9F4A4-3735-49F6-B3F2-FDB5126D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951E3-ACBB-434C-A599-E581B03A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82C46C-DA69-4C51-96DE-22CAF659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2ECE58-EC95-4C37-8846-181BC487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AAB9C-5B1C-4352-A15E-10EBA405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98C15-F1B6-4CAD-8451-CCCE1EC3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FA808-5CCF-4510-A18A-AC532BAA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F99FC0-4BA7-4918-90A4-600CDE0B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1BA5D7-CBC9-4459-AC75-1F0F937C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05011-BA5C-41F3-96D9-4217E36A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DDB152-F47A-471D-8723-D7951991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A29DBE-9160-4781-9272-8C2F0F48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23911-22EB-4E73-B58E-4B62ABEF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4CFF1-3638-49EE-9CAE-4B614F04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B5A151-4A37-43F4-917A-326CAF68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F9ECD1-72F3-4EF7-8BB1-65226159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55F5E0-362A-4FB8-A3D8-26C3FF1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DBD262-00C1-480C-BE2B-6D67B10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3FD44-CE49-4364-BE4D-CB87D41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F8D4A-6460-4569-A1B6-F41E17A0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C3382F-AC59-492B-A719-2E8B8EDF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48460-9E7E-4798-9C6D-638528E6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F2495-937D-4F06-B5F6-6B263F8C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60969-EF2B-49F2-B44B-44684FE7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EA07-0816-4F97-81AE-9EDE38F2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1CA1E-653C-41A1-8A09-2734BEE4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70D59-73B2-4120-BE47-A24D91ED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2279F-E5CD-4307-AA0D-F4713D8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6173BC-5FFE-4436-B094-B7D79EC5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0CE7B-628C-4861-B90F-B7798B9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EBD66-7715-4620-B6B3-9BFEC0DB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D3BD85-7288-4F72-B303-BD1E5EB7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E8DC3-3A4D-41CC-8A60-6D3900BE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93DE5-BA8B-4F4D-A684-74E6E21D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9D9EA-3486-48AB-AB4F-2E7EAF595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E00604-3C16-4F81-AA8A-1A647B41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52E4-1B65-4224-ADC6-DB0E064D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17BD14-5F7C-4FFD-96E7-A8015C31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12F34-1D85-4E09-BDF3-B7322B1D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EFC1F-55A3-4FE8-8603-3C41B95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17D47E-20C6-4926-84F7-7918D165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35D35-6044-4441-8F49-3D4F0800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A4317B-07FE-4771-BB74-1978FA6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51194-7844-4CB9-8799-50FD1DC5CE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DA2EE-297F-44FB-BA08-1981F88BB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5DABC-A7C4-4F99-9E4B-AB5AC3BE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285A-5B5E-4CB1-B6E0-D1E2FBD8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2F15-7656-45CC-8E2E-20DDD30E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7C0F2-B881-4948-8324-BA530A8C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601A9-7BB8-43DA-AEB2-036AC3A5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987E-87C0-42E3-8715-DCDE8745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856D1-0D9F-4620-B04A-B5C5FD76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5D70-7282-466D-B466-53938224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1C097-EA41-4743-9F76-6E9442DE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1793-AF28-47B3-BD2A-44160587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AB44-D58E-45CA-A9C3-0571998C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FB22-59F8-48F0-9EFB-A5E63EFB5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9BDAE8-6B2D-49EA-B32D-9D39FAFCC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DF580-3496-4F0A-B673-E4060A1D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11C125-4BFF-4948-A7D9-69A67EE1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91B3D-BA36-4DEF-97AE-ED6987BA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7D9212-67E9-4C95-BDA2-77B8F18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5427A-0709-4E10-9A34-A364B83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677ED3-445F-4E4D-B9C8-CF63BB8A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2D89B1-AEF4-4A74-A8A7-3F6AD465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DBF57F-E701-4D71-9833-BE09FBC9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7185E-DD2D-4CEF-8580-E70B753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E99A5-DBB7-4108-990B-ADD460F8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15C9C-29A6-408E-8747-338E822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FD9AB-D274-4070-BBAE-942DDF3C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28F4A-E9E4-40E5-9B33-0A1C99745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ED099-C3DE-4D75-B6B8-0A53655FBE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03C4B-EA82-4246-8C97-BB718FDD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9DFE2-E93A-4A0A-81D5-177E05D9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D4F25-88EE-442B-A78F-9257A82A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050475-D442-4159-B896-3CF7EA1B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8BDEC8-6736-4328-8163-ABCA70D4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F60A73-2D7E-44A9-96C6-C504163D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3F2C9F-0E5A-4D7A-A739-105A2D8D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538F28-6ABE-45EB-B2C0-E392E139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A694E-C90F-4F75-967E-708E89D2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5E1D7-42C4-4AB1-B49E-DC531A59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FCCF2C-B8C1-458A-8F69-81840B6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0B7778-2708-40B1-A8C8-F570AE4E0F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9C57-7090-40C1-9064-55AB8FD683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6FCD-3D43-4A1B-A130-F8B0102E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29B8-CEA1-473A-870E-C849FB44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E784B-E369-440C-BFB8-E0BC12BA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0983-5B63-4ACB-A379-075F63B27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B247-A3F7-464F-A1FD-EAAE202F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D8ED4-056B-4636-AC00-BFEADE8E3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47589-87B0-44AA-904A-234ECAD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857C0-685D-4040-BD22-389FF607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0803-0E1F-4D50-9C1D-944277BC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6580-82E1-4F7F-AC67-DDA0E2E8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4836E-970B-4321-9E91-4C044B3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33C36-AC6D-445D-B974-3E3DC7FC8F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FB29D-FAF9-46A0-880C-8049CB350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49757-E548-4EB7-AC1C-FDBE784F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DF4E36-24E4-44A4-95DA-B42DDAC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F529FD-0E5A-4031-9AF6-B958601A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4ED5DF-F9A6-48CD-A319-9ACC9732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5370-521B-42F6-9D97-A5CE67D3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85D46-7F8B-40D8-9A3F-E89FDCF3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2FF2CA-BDAF-4C54-96A4-51AB641B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1D6AF-0443-4B73-9AE5-A9E8A23C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3F4DEA-B471-4564-BA60-E660F7F6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11536F-F2A6-41A3-863A-8829F3FC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D19C2-FAB6-47C8-9B2B-26664AF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44780-01AD-466F-930F-F869C0AF5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A74C44-A8E7-4C1D-800F-8C73C6493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61A27-EDAC-4895-A9CE-EF228644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AEFF74-564C-4681-A3CA-5D399535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97C1-87AB-44F4-9639-EFB1423C978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513B-D7CF-478E-A985-0B3CDAAE17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8CF2-164C-4579-9868-B2B1F0DF86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A64A-B8D1-4560-B5BF-8DA6EE3E1FD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A7A0-1540-4432-B826-66D49DDC33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9DF-BF68-4BEE-AF82-6E98C0AFF5C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7DE1-F8F3-418A-A356-8DD8FA29793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249-0BE4-419E-ACAE-EBC335510A0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8E53-BA25-4B5D-B17B-A174E70EB04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06A-85B8-4B00-99BD-17EC21FDC6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36A9-5C77-4290-8C1A-8B22EDF78B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49F3-0869-4046-87E5-7723369DF91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851D-E42E-4B01-A149-541A6405D3D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63B7-31E3-4BEF-BD8B-5084527582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B44C-CA71-4BF5-B0A8-3175CC1E76F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9271-AB4E-494D-A5FF-D4D08529794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50C5-EB9A-446B-858C-A3E6E52897A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D43-7D54-45CD-852D-17276FC65D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21F-A731-43D5-A186-34CBE0B375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B9A7-7E88-4AA6-93B3-D3F6EBAFAC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661-EDD6-4A92-8CD1-9293BC367D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5945-DFAB-4B70-8AE9-B3032252DD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80AF-8579-459D-A189-6F32C99F00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6FD6-9ABF-4C85-A421-EFEB5D75C2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895480" y="2727360"/>
            <a:ext cx="55908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 习 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384200" y="1744560"/>
            <a:ext cx="91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角的初步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3"/>
          <p:cNvSpPr/>
          <p:nvPr/>
        </p:nvSpPr>
        <p:spPr>
          <a:xfrm>
            <a:off x="423720" y="109224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写在下面的角分别是什么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任意多边形 5"/>
          <p:cNvSpPr/>
          <p:nvPr/>
        </p:nvSpPr>
        <p:spPr>
          <a:xfrm>
            <a:off x="712800" y="1913040"/>
            <a:ext cx="893880" cy="671400"/>
          </a:xfrm>
          <a:custGeom>
            <a:avLst/>
            <a:gdLst/>
            <a:ahLst/>
            <a:rect l="l" t="t" r="r" b="b"/>
            <a:pathLst>
              <a:path w="893445" h="671830">
                <a:moveTo>
                  <a:pt x="0" y="16510"/>
                </a:moveTo>
                <a:lnTo>
                  <a:pt x="319405" y="671830"/>
                </a:lnTo>
                <a:lnTo>
                  <a:pt x="893445" y="0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任意多边形 6"/>
          <p:cNvSpPr/>
          <p:nvPr/>
        </p:nvSpPr>
        <p:spPr>
          <a:xfrm>
            <a:off x="2514600" y="1913040"/>
            <a:ext cx="771480" cy="679320"/>
          </a:xfrm>
          <a:custGeom>
            <a:avLst/>
            <a:gdLst/>
            <a:ahLst/>
            <a:rect l="l" t="t" r="r" b="b"/>
            <a:pathLst>
              <a:path w="770255" h="680085">
                <a:moveTo>
                  <a:pt x="0" y="0"/>
                </a:moveTo>
                <a:lnTo>
                  <a:pt x="0" y="680085"/>
                </a:lnTo>
                <a:lnTo>
                  <a:pt x="770255" y="68008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任意多边形 7"/>
          <p:cNvSpPr/>
          <p:nvPr/>
        </p:nvSpPr>
        <p:spPr>
          <a:xfrm>
            <a:off x="4022640" y="1913040"/>
            <a:ext cx="1393920" cy="573120"/>
          </a:xfrm>
          <a:custGeom>
            <a:avLst/>
            <a:gdLst/>
            <a:ahLst/>
            <a:rect l="l" t="t" r="r" b="b"/>
            <a:pathLst>
              <a:path w="1393190" h="573405">
                <a:moveTo>
                  <a:pt x="0" y="573405"/>
                </a:moveTo>
                <a:lnTo>
                  <a:pt x="655320" y="0"/>
                </a:lnTo>
                <a:lnTo>
                  <a:pt x="1393190" y="51625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任意多边形 8"/>
          <p:cNvSpPr/>
          <p:nvPr/>
        </p:nvSpPr>
        <p:spPr>
          <a:xfrm>
            <a:off x="5911920" y="1984320"/>
            <a:ext cx="909720" cy="476280"/>
          </a:xfrm>
          <a:custGeom>
            <a:avLst/>
            <a:gdLst/>
            <a:ahLst/>
            <a:rect l="l" t="t" r="r" b="b"/>
            <a:pathLst>
              <a:path w="909320" h="475615">
                <a:moveTo>
                  <a:pt x="843915" y="0"/>
                </a:moveTo>
                <a:lnTo>
                  <a:pt x="0" y="475615"/>
                </a:lnTo>
                <a:lnTo>
                  <a:pt x="909320" y="35242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任意多边形 9"/>
          <p:cNvSpPr/>
          <p:nvPr/>
        </p:nvSpPr>
        <p:spPr>
          <a:xfrm>
            <a:off x="7210440" y="1984320"/>
            <a:ext cx="1311120" cy="523800"/>
          </a:xfrm>
          <a:custGeom>
            <a:avLst/>
            <a:gdLst/>
            <a:ahLst/>
            <a:rect l="l" t="t" r="r" b="b"/>
            <a:pathLst>
              <a:path w="1310640" h="524510">
                <a:moveTo>
                  <a:pt x="0" y="16510"/>
                </a:moveTo>
                <a:lnTo>
                  <a:pt x="573405" y="524510"/>
                </a:lnTo>
                <a:lnTo>
                  <a:pt x="1310640" y="0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10"/>
          <p:cNvSpPr/>
          <p:nvPr/>
        </p:nvSpPr>
        <p:spPr>
          <a:xfrm>
            <a:off x="372960" y="298116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）角       （       ）角      （       ）角     （       ）角  （      ）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11"/>
          <p:cNvSpPr/>
          <p:nvPr/>
        </p:nvSpPr>
        <p:spPr>
          <a:xfrm>
            <a:off x="882720" y="299088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3"/>
          <p:cNvSpPr/>
          <p:nvPr/>
        </p:nvSpPr>
        <p:spPr>
          <a:xfrm>
            <a:off x="2690640" y="29811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4"/>
          <p:cNvSpPr/>
          <p:nvPr/>
        </p:nvSpPr>
        <p:spPr>
          <a:xfrm>
            <a:off x="4516560" y="297180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17"/>
          <p:cNvSpPr/>
          <p:nvPr/>
        </p:nvSpPr>
        <p:spPr>
          <a:xfrm>
            <a:off x="6294600" y="297828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8"/>
          <p:cNvSpPr/>
          <p:nvPr/>
        </p:nvSpPr>
        <p:spPr>
          <a:xfrm>
            <a:off x="7790040" y="2986200"/>
            <a:ext cx="5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文本框 1"/>
          <p:cNvSpPr/>
          <p:nvPr/>
        </p:nvSpPr>
        <p:spPr>
          <a:xfrm>
            <a:off x="650880" y="728640"/>
            <a:ext cx="28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数一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等腰三角形 2"/>
          <p:cNvSpPr/>
          <p:nvPr/>
        </p:nvSpPr>
        <p:spPr>
          <a:xfrm>
            <a:off x="1609560" y="1569960"/>
            <a:ext cx="1297080" cy="10796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任意多边形 3"/>
          <p:cNvSpPr/>
          <p:nvPr/>
        </p:nvSpPr>
        <p:spPr>
          <a:xfrm>
            <a:off x="5280120" y="1589040"/>
            <a:ext cx="1401840" cy="1081080"/>
          </a:xfrm>
          <a:custGeom>
            <a:avLst/>
            <a:gdLst/>
            <a:ahLst/>
            <a:rect l="l" t="t" r="r" b="b"/>
            <a:pathLst>
              <a:path w="1400810" h="1081405">
                <a:moveTo>
                  <a:pt x="1393190" y="0"/>
                </a:moveTo>
                <a:lnTo>
                  <a:pt x="0" y="0"/>
                </a:lnTo>
                <a:lnTo>
                  <a:pt x="0" y="1081405"/>
                </a:lnTo>
                <a:lnTo>
                  <a:pt x="1400810" y="1081405"/>
                </a:ln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任意多边形 5"/>
          <p:cNvSpPr/>
          <p:nvPr/>
        </p:nvSpPr>
        <p:spPr>
          <a:xfrm>
            <a:off x="6354720" y="1587600"/>
            <a:ext cx="588960" cy="1082520"/>
          </a:xfrm>
          <a:custGeom>
            <a:avLst/>
            <a:gdLst/>
            <a:ahLst/>
            <a:rect l="l" t="t" r="r" b="b"/>
            <a:pathLst>
              <a:path w="588871" h="1082040">
                <a:moveTo>
                  <a:pt x="293953" y="1082040"/>
                </a:moveTo>
                <a:cubicBezTo>
                  <a:pt x="239343" y="1036955"/>
                  <a:pt x="13283" y="934720"/>
                  <a:pt x="72338" y="828040"/>
                </a:cubicBezTo>
                <a:cubicBezTo>
                  <a:pt x="131393" y="721360"/>
                  <a:pt x="601928" y="665480"/>
                  <a:pt x="588593" y="549275"/>
                </a:cubicBezTo>
                <a:cubicBezTo>
                  <a:pt x="575258" y="433070"/>
                  <a:pt x="62813" y="355600"/>
                  <a:pt x="6933" y="245745"/>
                </a:cubicBezTo>
                <a:cubicBezTo>
                  <a:pt x="-48947" y="135890"/>
                  <a:pt x="249503" y="45720"/>
                  <a:pt x="310463" y="0"/>
                </a:cubicBezTo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梯形 6"/>
          <p:cNvSpPr/>
          <p:nvPr/>
        </p:nvSpPr>
        <p:spPr>
          <a:xfrm flipV="1">
            <a:off x="1549440" y="4004640"/>
            <a:ext cx="1511280" cy="936360"/>
          </a:xfrm>
          <a:custGeom>
            <a:avLst/>
            <a:gdLst/>
            <a:ahLst/>
            <a:rect l="l" t="t" r="r" b="b"/>
            <a:pathLst>
              <a:path w="1511300" h="936625">
                <a:moveTo>
                  <a:pt x="0" y="936625"/>
                </a:moveTo>
                <a:lnTo>
                  <a:pt x="234156" y="0"/>
                </a:lnTo>
                <a:lnTo>
                  <a:pt x="1277143" y="0"/>
                </a:lnTo>
                <a:lnTo>
                  <a:pt x="1511300" y="936625"/>
                </a:lnTo>
                <a:close/>
              </a:path>
            </a:pathLst>
          </a:cu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流程图: 决策 8"/>
          <p:cNvSpPr/>
          <p:nvPr/>
        </p:nvSpPr>
        <p:spPr>
          <a:xfrm>
            <a:off x="5038560" y="3946680"/>
            <a:ext cx="2187720" cy="1089000"/>
          </a:xfrm>
          <a:prstGeom prst="flowChartDecision">
            <a:avLst/>
          </a:prstGeom>
          <a:noFill/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9"/>
          <p:cNvSpPr/>
          <p:nvPr/>
        </p:nvSpPr>
        <p:spPr>
          <a:xfrm>
            <a:off x="1047600" y="2995560"/>
            <a:ext cx="714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                          （        ）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                           （        ）个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钝角                           （        ）个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文本框 10"/>
          <p:cNvSpPr/>
          <p:nvPr/>
        </p:nvSpPr>
        <p:spPr>
          <a:xfrm>
            <a:off x="1577880" y="295596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文本框 11"/>
          <p:cNvSpPr/>
          <p:nvPr/>
        </p:nvSpPr>
        <p:spPr>
          <a:xfrm>
            <a:off x="5437080" y="295920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文本框 12"/>
          <p:cNvSpPr/>
          <p:nvPr/>
        </p:nvSpPr>
        <p:spPr>
          <a:xfrm>
            <a:off x="1560600" y="514836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13"/>
          <p:cNvSpPr/>
          <p:nvPr/>
        </p:nvSpPr>
        <p:spPr>
          <a:xfrm>
            <a:off x="1577880" y="552132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文本框 14"/>
          <p:cNvSpPr/>
          <p:nvPr/>
        </p:nvSpPr>
        <p:spPr>
          <a:xfrm>
            <a:off x="5492880" y="51386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文本框 15"/>
          <p:cNvSpPr/>
          <p:nvPr/>
        </p:nvSpPr>
        <p:spPr>
          <a:xfrm>
            <a:off x="5513400" y="5514840"/>
            <a:ext cx="4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文本框 1"/>
          <p:cNvSpPr/>
          <p:nvPr/>
        </p:nvSpPr>
        <p:spPr>
          <a:xfrm>
            <a:off x="369720" y="80496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按要求画一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"/>
          <p:cNvSpPr/>
          <p:nvPr/>
        </p:nvSpPr>
        <p:spPr>
          <a:xfrm>
            <a:off x="587520" y="1273320"/>
            <a:ext cx="79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你能用三角尺将下面的图形补充为直角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文本框 3"/>
          <p:cNvSpPr/>
          <p:nvPr/>
        </p:nvSpPr>
        <p:spPr>
          <a:xfrm>
            <a:off x="571680" y="3352680"/>
            <a:ext cx="79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按要求在下面的图形中分别画上一条直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文本框 4"/>
          <p:cNvSpPr/>
          <p:nvPr/>
        </p:nvSpPr>
        <p:spPr>
          <a:xfrm>
            <a:off x="1044720" y="4054320"/>
            <a:ext cx="67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形成一个锐角          形成两个角           形成四个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5"/>
          <p:cNvSpPr/>
          <p:nvPr/>
        </p:nvSpPr>
        <p:spPr>
          <a:xfrm>
            <a:off x="1623960" y="2548080"/>
            <a:ext cx="1452600" cy="51912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直接连接符 6"/>
          <p:cNvSpPr/>
          <p:nvPr/>
        </p:nvSpPr>
        <p:spPr>
          <a:xfrm>
            <a:off x="5043600" y="2900520"/>
            <a:ext cx="1301760" cy="0"/>
          </a:xfrm>
          <a:prstGeom prst="line">
            <a:avLst/>
          </a:prstGeom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直接连接符 7"/>
          <p:cNvSpPr/>
          <p:nvPr/>
        </p:nvSpPr>
        <p:spPr>
          <a:xfrm>
            <a:off x="1479600" y="4906800"/>
            <a:ext cx="143676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8"/>
          <p:cNvSpPr/>
          <p:nvPr/>
        </p:nvSpPr>
        <p:spPr>
          <a:xfrm>
            <a:off x="3838680" y="4890960"/>
            <a:ext cx="143676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9"/>
          <p:cNvSpPr/>
          <p:nvPr/>
        </p:nvSpPr>
        <p:spPr>
          <a:xfrm>
            <a:off x="6197760" y="4890960"/>
            <a:ext cx="1438200" cy="75420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10"/>
          <p:cNvSpPr/>
          <p:nvPr/>
        </p:nvSpPr>
        <p:spPr>
          <a:xfrm flipV="1">
            <a:off x="3062160" y="1844640"/>
            <a:ext cx="505080" cy="1230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1"/>
          <p:cNvSpPr/>
          <p:nvPr/>
        </p:nvSpPr>
        <p:spPr>
          <a:xfrm flipV="1">
            <a:off x="5041800" y="1837800"/>
            <a:ext cx="0" cy="1070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12"/>
          <p:cNvSpPr/>
          <p:nvPr/>
        </p:nvSpPr>
        <p:spPr>
          <a:xfrm flipH="1" flipV="1">
            <a:off x="1479600" y="4906440"/>
            <a:ext cx="1573200" cy="17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13"/>
          <p:cNvSpPr/>
          <p:nvPr/>
        </p:nvSpPr>
        <p:spPr>
          <a:xfrm flipH="1">
            <a:off x="4492800" y="5086440"/>
            <a:ext cx="86328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14"/>
          <p:cNvSpPr/>
          <p:nvPr/>
        </p:nvSpPr>
        <p:spPr>
          <a:xfrm flipH="1">
            <a:off x="6107040" y="5157720"/>
            <a:ext cx="1687680" cy="281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文本框 1"/>
          <p:cNvSpPr/>
          <p:nvPr/>
        </p:nvSpPr>
        <p:spPr>
          <a:xfrm>
            <a:off x="593640" y="809640"/>
            <a:ext cx="469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数一数下面图形中的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组合 6"/>
          <p:cNvGrpSpPr/>
          <p:nvPr/>
        </p:nvGrpSpPr>
        <p:grpSpPr>
          <a:xfrm>
            <a:off x="856800" y="1782360"/>
            <a:ext cx="2514960" cy="1205280"/>
            <a:chOff x="856800" y="1782360"/>
            <a:chExt cx="2514960" cy="1205280"/>
          </a:xfrm>
        </p:grpSpPr>
        <p:sp>
          <p:nvSpPr>
            <p:cNvPr id="1039" name="直接连接符 2"/>
            <p:cNvSpPr/>
            <p:nvPr/>
          </p:nvSpPr>
          <p:spPr>
            <a:xfrm>
              <a:off x="1757520" y="2987640"/>
              <a:ext cx="161424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3"/>
            <p:cNvSpPr/>
            <p:nvPr/>
          </p:nvSpPr>
          <p:spPr>
            <a:xfrm flipV="1">
              <a:off x="1756080" y="1782360"/>
              <a:ext cx="0" cy="120492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直接连接符 4"/>
            <p:cNvSpPr/>
            <p:nvPr/>
          </p:nvSpPr>
          <p:spPr>
            <a:xfrm flipV="1">
              <a:off x="1757520" y="2044800"/>
              <a:ext cx="942120" cy="94248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直接连接符 5"/>
            <p:cNvSpPr/>
            <p:nvPr/>
          </p:nvSpPr>
          <p:spPr>
            <a:xfrm flipH="1" flipV="1">
              <a:off x="856800" y="2085480"/>
              <a:ext cx="901080" cy="90180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文本框 7"/>
          <p:cNvSpPr/>
          <p:nvPr/>
        </p:nvSpPr>
        <p:spPr>
          <a:xfrm>
            <a:off x="4529160" y="1787400"/>
            <a:ext cx="294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锐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       ）个钝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文本框 8"/>
          <p:cNvSpPr/>
          <p:nvPr/>
        </p:nvSpPr>
        <p:spPr>
          <a:xfrm>
            <a:off x="5000760" y="17748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文本框 9"/>
          <p:cNvSpPr/>
          <p:nvPr/>
        </p:nvSpPr>
        <p:spPr>
          <a:xfrm>
            <a:off x="5000760" y="215568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文本框 10"/>
          <p:cNvSpPr/>
          <p:nvPr/>
        </p:nvSpPr>
        <p:spPr>
          <a:xfrm>
            <a:off x="4992840" y="252720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22:00Z</dcterms:created>
  <dc:creator/>
  <dc:description/>
  <dc:language>en-US</dc:language>
  <cp:lastModifiedBy>万润仪器贸易公司</cp:lastModifiedBy>
  <dcterms:modified xsi:type="dcterms:W3CDTF">2020-08-21T00:42:4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